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9EE-43B1-4094-8A1B-63CDAF5235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57A-80BF-456B-93BE-4A15908073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D2E-7DA1-43B0-A989-804756E3B0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A584-EC95-4B15-B955-521F954DA7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914B-75E6-4E22-80A4-51EB77C321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1502-FD88-4491-BB3F-760DF0D015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6F7-CA63-418D-8FCA-948CE400F0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FB64-B457-47C9-A4B1-577B5ED5FE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3E8-48ED-4B70-91AC-CE10020B83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63C-D27E-4E43-9386-213B08AA6D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E707-0272-4A44-980E-7A2A399E4D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E7A-35BC-4127-B9A7-16ADAB0CA9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912-FC35-4593-B66D-E83333B88E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002-B8FC-488F-A4EA-2D40F457A4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184-05D8-494E-929B-89D455F066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8048-F902-4161-9AC4-0BF75D692A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0BB-1990-4A97-8DFF-383283B6A8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7AF-46DC-4B03-BC0E-36A0281B72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C92-4B08-4AFD-9C75-39EAFD088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21F4-5556-4CDD-B010-78EB11895A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6B2-FCE9-401A-82BD-6DAD83F19E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A7D2-B091-4321-86EC-E5171CFEA2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C407-9CD8-44B4-BF91-569A42207A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441A-FE9F-4367-B062-B84C06EC1F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4965-CA03-46F3-8D45-F22C6F7F0D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086B-599D-4A6F-B1F7-89EDB51523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6DD4-4FE6-4199-A4C2-8B0605DD14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BB5F-0AB4-4011-8FEF-17C5759CE0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984-FE30-4CD3-89A8-6F1732EB83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750-5964-4D9C-B0A5-0354686264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252-A6DB-4B1B-B9EC-97F52BE430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E66-C803-4D4B-85BA-89933B75DC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12C5-EA0E-4525-B222-E076242CF1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376-10CB-4EAE-8B52-E14454CA7B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FBA4-F044-43F9-86DC-B192AC9F15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F28A-1C96-48D8-989F-A80EE83116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F15B-C47F-41CE-AFD1-35363A87D9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3871-DB7A-4062-B369-8772726AE1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84A-5E80-4250-9D96-16BE0B0A9D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C16C-052D-4C5B-9C75-C7693F9B84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F34-B3FA-444C-8DBF-42EEC29BF3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211-D2B7-47D0-90FA-F2105D565A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15D9-7507-49B8-B5FD-2C5C078C5D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344-6F87-4ED8-B0BF-95B3250A56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4765-DD85-4762-BB0B-0CF7191E03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9A40-2B97-4FD4-8D7F-0276E4010C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EC1-6973-46EC-B2E1-48D71370A0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97B0-2328-41C3-B017-42DF661C22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C51-7EC3-44C0-8F55-3465931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5B5-3DE8-4A9F-9C25-BE3F503E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068-1E2D-4A10-A847-97FAF40E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9D6-E766-4C60-B64A-AC15F81A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591-BB73-4E51-89EF-609C97C2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05A-84B9-44AD-85E3-862D2E4C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38B-CA46-4EDB-9AED-0820845C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56F-1ABB-4828-8168-5C3A7BF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FB6-9FFB-4998-ADF9-882DBE97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716-E16C-4230-B1B7-D48A74E9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205-4F44-4E58-BD3A-79B313A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E7E-D30A-4BD1-A332-1C3E35E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17E2-8159-4642-91ED-6789F6F5EB7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īngshuō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자 하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층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ǐ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帽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mà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모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로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각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219640"/>
            <a:ext cx="6381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300" spc="-1" strike="noStrike">
                <a:solidFill>
                  <a:srgbClr val="000000"/>
                </a:solidFill>
                <a:latin typeface="Arial"/>
              </a:rPr>
              <a:t>일으키다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300" spc="-1" strike="noStrike">
                <a:solidFill>
                  <a:srgbClr val="000000"/>
                </a:solidFill>
                <a:latin typeface="Arial"/>
              </a:rPr>
              <a:t>생기다</a:t>
            </a:r>
            <a:endParaRPr b="0" lang="en-US" sz="6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ó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부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chúfáng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la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나오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장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최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旁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ángbiā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옆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근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饺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통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ì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礼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ǐw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선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도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什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743520"/>
            <a:ext cx="626436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000000"/>
                </a:solidFill>
                <a:latin typeface="Arial"/>
              </a:rPr>
              <a:t>wèi shénme</a:t>
            </a:r>
            <a:endParaRPr b="0" lang="en-US" sz="8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刚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āngcái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금 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人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énk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óji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n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식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个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è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0" spc="-1" strike="noStrike">
                <a:solidFill>
                  <a:srgbClr val="000000"/>
                </a:solidFill>
                <a:latin typeface="Arial"/>
              </a:rPr>
              <a:t>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키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크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包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바오즈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소가 든 찐빵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火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ǒg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훠궈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중국식 신선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卖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iǎomàibù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成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70716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énggōng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성공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àxu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대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民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z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민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àiyá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양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阴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린 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흩어지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墨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òsh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먹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b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칠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参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āngu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견학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àn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텔레비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fāngxià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qiānw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부디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엄청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建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50760"/>
            <a:ext cx="6264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500" spc="-1" strike="noStrike">
                <a:solidFill>
                  <a:srgbClr val="000000"/>
                </a:solidFill>
                <a:latin typeface="Arial"/>
              </a:rPr>
              <a:t>jiànshè</a:t>
            </a:r>
            <a:endParaRPr b="0" lang="en-US" sz="1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건설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说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ōhuà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表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27080"/>
            <a:ext cx="6264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biǎoyǎn</a:t>
            </a:r>
            <a:endParaRPr b="0" lang="en-US" sz="1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공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精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gcǎ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훌륭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午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ǔ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점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l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콜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04:16Z</dcterms:created>
  <dc:creator>System</dc:creator>
  <dc:description/>
  <dc:language>en-US</dc:language>
  <cp:lastModifiedBy>System</cp:lastModifiedBy>
  <dcterms:modified xsi:type="dcterms:W3CDTF">2014-01-28T04:11:46Z</dcterms:modified>
  <cp:revision>7</cp:revision>
  <dc:subject/>
  <dc:title>슬라이드 1</dc:title>
</cp:coreProperties>
</file>